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3FBE-D472-44EF-9845-2E928F03F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7760-96A7-4943-BC28-4188D12C9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4A28-DF9C-4B35-91D8-3B4F77610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CB9B-B48A-4F90-A0FF-37D0BA387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DAEF-0875-442A-BEF3-081920FCDA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4611-C08B-4C93-91B5-E14CED21C6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6053-3301-4E16-A64D-D3A1F9D5E3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65E4-69EA-489A-9318-6A3C445D66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7F47-C8FB-4937-B0FF-F8F0451F93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1D9D0-D29D-43AE-B4BA-C1567DC3D3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0C50-8AA8-4293-A62A-F5BF051811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7039-69DF-4902-B8CB-C68E57D24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601C-043C-4E7C-92BC-E9CE0FBF78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10A7-3978-4529-B72F-DDCE8BAA77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8897-E5F4-4DAF-B50A-9ADD672161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42E2E-30A6-43D8-B9A1-3CDB6C1D47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42B1-0D84-41C9-98A0-AF089233668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36B-8869-44EB-99FD-8EE610633E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100-3B90-4741-BE9F-4014F8CCCF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624-160B-4B2D-8C27-1C93B44F11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28D-E8AF-43A0-8BB8-3209935011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343-4C34-48F0-9F96-2CE8A38AF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3FAD-DF91-428E-8197-A13B4FCAB5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078-562E-49E9-9C64-B0E737B01C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B34-10F7-4DCB-A1DD-5604FCD528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417-7C9C-4D80-8A87-036A287EE4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A7C2-2B4B-43F3-AB7D-E87F060DC5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AFE-FED8-46FB-A5F6-C31F118620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40D-226F-45D2-809A-14B5B2D79C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789-21FE-4C74-AA03-9C6C3200CD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75726-1184-4436-92BE-7BB746CAE91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027A8-0CA0-494E-A3DD-30F0C19BBE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51EEB-3B1D-45F5-B873-446F18FE3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98E1-3594-42A2-9ED4-0B421A948A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B0FE3-F22C-4957-9FC5-43C31A7362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2EAE9-A12A-48C3-9A96-4E08F7A178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72FF5-4FCB-42AB-81DF-4BF320490C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1D252-9383-47C3-B998-1A3C0B152E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798E5-DE99-403C-9692-4C66BDF9EA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F9D8A-F601-47CD-A1DD-91FF1E28D7E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8C40-70FA-4CCB-B2D1-81F20F7B31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94A09-44AF-4AE2-98A7-B782887893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2116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3040" y="176796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96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2116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03040" y="4793040"/>
            <a:ext cx="283932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7E19-5E8B-488E-A0E8-48F6CB37A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07F0-ED18-402C-A4D0-A7B3F53B75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9640" y="333360"/>
            <a:ext cx="8818560" cy="66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5ACD-3A5A-41ED-B672-EC4651604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399F-B654-46E6-BADD-989E000CA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8720" y="479304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B128-BEBC-4DA0-ABFF-BDB267078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8720" y="1767960"/>
            <a:ext cx="430344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4793040"/>
            <a:ext cx="8818560" cy="27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B8FF-1E1A-44D1-9B9F-8E789B8C1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F18B-8021-4249-BCA3-5E7518275ED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2920" y="95040"/>
            <a:ext cx="90694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254800" y="6886440"/>
            <a:ext cx="2919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827A-DB5C-44ED-9A16-7305F07E8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9DB4-8DDA-4949-BC15-A1118F93C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8185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39640" y="1767960"/>
            <a:ext cx="88185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lnSpc>
                <a:spcPct val="93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259480" y="699588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8E2-2ACB-414A-856F-F11AB2E53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7360" y="309600"/>
            <a:ext cx="88200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Castle Int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1986120"/>
            <a:ext cx="758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A castle had one or more courtyard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veryone ate near the great hal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Castles were also fort’s during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743200" y="4711680"/>
            <a:ext cx="41148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oa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828800"/>
            <a:ext cx="7581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Filled with water or stakes to make a barrier for men and ho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200400" y="365760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Dunge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057400"/>
            <a:ext cx="7353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holding pris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xtreme cases used for tortu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971800" y="3200400"/>
            <a:ext cx="421956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Drawbrid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057400"/>
            <a:ext cx="712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 wooden platform with one hinged side that connected it to the castle and the other side was raised with ropes or chains</a:t>
            </a: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5181480" cy="24192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Portculli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057400"/>
            <a:ext cx="71247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 heavy, spiked door hung from the gatehouse or barbican ce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ropes could be cut quickly and it would fall down, blocking the entrance of inv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0400" y="41148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Gatehou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2057400"/>
            <a:ext cx="73533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defended by the barbi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entrance to the cas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7277040"/>
                <a:tab algn="l" pos="73533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fortifie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971800" y="3886200"/>
            <a:ext cx="399096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Barbic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1828800"/>
            <a:ext cx="7124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d for defense attack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At the entrance of the castle, confining the enemy in a thin pa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exterior passage leading to the main entrance, the Gat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4314960" cy="2840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280" y="334800"/>
            <a:ext cx="88203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Curtain Wal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2057400"/>
            <a:ext cx="6896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9240" tIns="0" bIns="0" anchor="t">
            <a:noAutofit/>
          </a:bodyPr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d for defens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The outer wall of the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6-20 feet th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45 feet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93000"/>
              </a:lnSpc>
              <a:buClr>
                <a:srgbClr val="ffffff"/>
              </a:buClr>
              <a:buSzPct val="43000"/>
              <a:buFont typeface="Wingdings" charset="2"/>
              <a:buChar char=""/>
              <a:tabLst>
                <a:tab algn="l" pos="762120"/>
                <a:tab algn="l" pos="1486080"/>
                <a:tab algn="l" pos="2209680"/>
                <a:tab algn="l" pos="2933640"/>
                <a:tab algn="l" pos="3657600"/>
                <a:tab algn="l" pos="4381560"/>
                <a:tab algn="l" pos="5105520"/>
                <a:tab algn="l" pos="5829480"/>
                <a:tab algn="l" pos="6553080"/>
                <a:tab algn="l" pos="6896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  <a:ea typeface="Arial"/>
              </a:rPr>
              <a:t>1, 500 feet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35719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